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762-0E32-4CBB-8586-3BE407CC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D73-FFCB-4278-BF97-1516D71B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960-0209-4E24-9385-A967AD80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B2C-9A89-4AA8-B505-42EC4FBC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3D4-04CC-4096-A2BE-D3E8A051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DB3-CB39-4D56-8AD9-2980041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4EC-98C9-4FCD-8D81-C087E948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23B-AF63-46D5-8E93-3736816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D62-158D-406F-B02C-5731483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727-EB51-4ED5-9F87-2CBAD3E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0DE-3FC7-403F-A1D8-09DDC80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3B1-C2FC-4D42-95DF-284BD74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D2CE-0B18-484D-8040-FA673536CB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408079383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317520" y="109440"/>
            <a:ext cx="6737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1268324095_0005.jpg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Что такое квадратичная функц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координаты вершины параболы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ое уравнение имеет ось симметрии параболы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гда функция возрастает, убыв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наименьшее или наибольшее значение функции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алгоритм построения графика квадратичной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251224-8-1266675608019.jpg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920880" y="171360"/>
            <a:ext cx="74419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-165240" y="347760"/>
            <a:ext cx="941868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6" descr=""/>
          <p:cNvPicPr/>
          <p:nvPr/>
        </p:nvPicPr>
        <p:blipFill>
          <a:blip r:embed="rId2"/>
          <a:stretch/>
        </p:blipFill>
        <p:spPr>
          <a:xfrm>
            <a:off x="1341360" y="2077920"/>
            <a:ext cx="5851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6.jpeg"/>
          <p:cNvPicPr/>
          <p:nvPr/>
        </p:nvPicPr>
        <p:blipFill>
          <a:blip r:embed="rId1"/>
          <a:stretch/>
        </p:blipFill>
        <p:spPr>
          <a:xfrm>
            <a:off x="3071880" y="3714840"/>
            <a:ext cx="256068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878040" y="676440"/>
            <a:ext cx="766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chet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907920"/>
            <a:ext cx="8845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7.jpeg"/>
          <p:cNvPicPr/>
          <p:nvPr/>
        </p:nvPicPr>
        <p:blipFill>
          <a:blip r:embed="rId1"/>
          <a:stretch/>
        </p:blipFill>
        <p:spPr>
          <a:xfrm>
            <a:off x="3357720" y="39574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646200" y="1189080"/>
            <a:ext cx="7742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7" descr=""/>
          <p:cNvPicPr/>
          <p:nvPr/>
        </p:nvPicPr>
        <p:blipFill>
          <a:blip r:embed="rId1"/>
          <a:stretch/>
        </p:blipFill>
        <p:spPr>
          <a:xfrm>
            <a:off x="42840" y="476280"/>
            <a:ext cx="6168960" cy="3516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parabola.JPG"/>
          <p:cNvPicPr/>
          <p:nvPr/>
        </p:nvPicPr>
        <p:blipFill>
          <a:blip r:embed="rId2"/>
          <a:stretch/>
        </p:blipFill>
        <p:spPr>
          <a:xfrm>
            <a:off x="5500800" y="2228760"/>
            <a:ext cx="3471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5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856720" cy="6016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23028781_1208534696_dlinnohvostayaneyasit.jpg"/>
          <p:cNvPicPr/>
          <p:nvPr/>
        </p:nvPicPr>
        <p:blipFill>
          <a:blip r:embed="rId2"/>
          <a:stretch/>
        </p:blipFill>
        <p:spPr>
          <a:xfrm>
            <a:off x="6929280" y="214200"/>
            <a:ext cx="2049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1517760"/>
            <a:ext cx="9352080" cy="354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800xdfgdsf.jpg"/>
          <p:cNvPicPr/>
          <p:nvPr/>
        </p:nvPicPr>
        <p:blipFill>
          <a:blip r:embed="rId2"/>
          <a:stretch/>
        </p:blipFill>
        <p:spPr>
          <a:xfrm>
            <a:off x="6929280" y="390528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60480" y="639720"/>
            <a:ext cx="89978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picturecontent-pid-181eb-et-70886b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249120" y="-6480"/>
            <a:ext cx="6315120" cy="742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ертикальный свиток 4"/>
          <p:cNvSpPr/>
          <p:nvPr/>
        </p:nvSpPr>
        <p:spPr>
          <a:xfrm>
            <a:off x="428760" y="2143080"/>
            <a:ext cx="3286080" cy="2000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ая прямоугольная выноска 5"/>
          <p:cNvSpPr/>
          <p:nvPr/>
        </p:nvSpPr>
        <p:spPr>
          <a:xfrm>
            <a:off x="4500720" y="2214720"/>
            <a:ext cx="3143160" cy="1571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следов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агетная рамка 7"/>
          <p:cNvSpPr/>
          <p:nvPr/>
        </p:nvSpPr>
        <p:spPr>
          <a:xfrm>
            <a:off x="2500200" y="4714920"/>
            <a:ext cx="3429000" cy="1500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рхит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9" descr=""/>
          <p:cNvPicPr/>
          <p:nvPr/>
        </p:nvPicPr>
        <p:blipFill>
          <a:blip r:embed="rId1"/>
          <a:stretch/>
        </p:blipFill>
        <p:spPr>
          <a:xfrm>
            <a:off x="96840" y="317520"/>
            <a:ext cx="8901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texto_parabola-do-filho-prodigofontemonotypecorsiva.jpg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ить литературные источ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учить историю возникновения понятия фун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ветить на вопрос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появилось понятие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в нашей жизни мы встречаем график квадратичной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51:39Z</dcterms:created>
  <dc:creator>26530</dc:creator>
  <dc:description/>
  <dc:language>en-US</dc:language>
  <cp:lastModifiedBy>Игорь</cp:lastModifiedBy>
  <dcterms:modified xsi:type="dcterms:W3CDTF">2010-05-21T18:33:08Z</dcterms:modified>
  <cp:revision>32</cp:revision>
  <dc:subject/>
  <dc:title>Слайд 1</dc:title>
</cp:coreProperties>
</file>